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CB6-6808-40AA-BEB5-BBF02A29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DE4-65FC-4127-898C-8C237A1A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7C4-B5B3-41DC-8ECF-13FA7DAF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875-8930-402C-B8C9-57AD1A45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D263-E481-42DC-BFA5-F57B6D40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7EE9-4363-4976-8DBD-6E373C89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C4AA-E3FD-4628-B818-CC615255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9061-1B16-40F6-A0BA-7F4E4A93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E45C-D076-40A3-AE0D-E126E9F5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8EE8-5214-47E5-B439-3CAACF33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5DD8-589B-48D9-912E-DA4878B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2A6-8EA4-45A2-AC8A-7B4AEE19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73C9-1688-4FA9-82B6-A91635B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D0FD-DF9B-4798-A578-7690FF3F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8ACC-AD63-48D7-8B1E-8981C2D3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A1C-C79C-4FF3-B492-C057D43B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BA41-66EE-4166-918D-58297F69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8F8-6B93-489F-9D89-92E2108D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512-9908-423B-9B16-6DB73CD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590-220D-4AB6-8469-72C0B690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49C-4875-45F8-B7D4-49F60266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FC0-907B-4FD2-B25C-2D58BE06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688-93AF-469D-A978-DE36A904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F72-AD29-4BC0-95C6-4C198CC5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9C72-C518-4D1A-A20C-6CFCBFEA15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4AD0-0524-46FC-815D-CDD3225AC4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Bea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two waves have similar frequencies they will create an interference pattern called a b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www.mta.ca/faculty/science/physics/suren/Beats/Be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Bea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the interference pattern you can learn different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Beat Frequency: The long and regular change of the interference patter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Wave Frequency: The number of wavelengths (one peak and one trough) of the resultant wave in one second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Beat Frequenc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or this wave…2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1280" y="2852640"/>
            <a:ext cx="7776720" cy="2035440"/>
            <a:chOff x="611280" y="2852640"/>
            <a:chExt cx="7776720" cy="2035440"/>
          </a:xfrm>
        </p:grpSpPr>
        <p:grpSp>
          <p:nvGrpSpPr>
            <p:cNvPr id="104" name=""/>
            <p:cNvGrpSpPr/>
            <p:nvPr/>
          </p:nvGrpSpPr>
          <p:grpSpPr>
            <a:xfrm>
              <a:off x="611280" y="2852640"/>
              <a:ext cx="7776720" cy="2035440"/>
              <a:chOff x="611280" y="2852640"/>
              <a:chExt cx="7776720" cy="20354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611280" y="2852640"/>
                <a:ext cx="7631640" cy="2035440"/>
                <a:chOff x="611280" y="2852640"/>
                <a:chExt cx="7631640" cy="203544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829080" y="2998080"/>
                  <a:ext cx="0" cy="189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83640" y="3942720"/>
                  <a:ext cx="712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370640" y="4015440"/>
                  <a:ext cx="87228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ime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29080" y="2852640"/>
                  <a:ext cx="159876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isplacement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29080" y="3143520"/>
                  <a:ext cx="63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29080" y="4742640"/>
                  <a:ext cx="639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89504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6100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2732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09328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15924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22556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29080" y="3870000"/>
                  <a:ext cx="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11280" y="3870000"/>
                  <a:ext cx="29052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689120" y="3979440"/>
                  <a:ext cx="5572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743200" y="3979440"/>
                  <a:ext cx="5569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09160" y="3979440"/>
                  <a:ext cx="5569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899600" y="3979440"/>
                  <a:ext cx="5569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965560" y="3979440"/>
                  <a:ext cx="5572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31520" y="3979440"/>
                  <a:ext cx="5572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6643800" y="2998080"/>
                <a:ext cx="1744200" cy="29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ximum amplitu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836640" y="3156120"/>
              <a:ext cx="6534000" cy="1574280"/>
            </a:xfrm>
            <a:custGeom>
              <a:avLst/>
              <a:gdLst/>
              <a:ahLst/>
              <a:rect l="l" t="t" r="r" b="b"/>
              <a:pathLst>
                <a:path w="8091" h="1949">
                  <a:moveTo>
                    <a:pt x="0" y="966"/>
                  </a:moveTo>
                  <a:cubicBezTo>
                    <a:pt x="280" y="806"/>
                    <a:pt x="1133" y="6"/>
                    <a:pt x="1680" y="6"/>
                  </a:cubicBezTo>
                  <a:cubicBezTo>
                    <a:pt x="2227" y="6"/>
                    <a:pt x="2737" y="643"/>
                    <a:pt x="3280" y="966"/>
                  </a:cubicBezTo>
                  <a:cubicBezTo>
                    <a:pt x="3823" y="1289"/>
                    <a:pt x="4393" y="1943"/>
                    <a:pt x="4940" y="1946"/>
                  </a:cubicBezTo>
                  <a:cubicBezTo>
                    <a:pt x="5487" y="1949"/>
                    <a:pt x="6035" y="1310"/>
                    <a:pt x="6560" y="986"/>
                  </a:cubicBezTo>
                  <a:cubicBezTo>
                    <a:pt x="7085" y="662"/>
                    <a:pt x="7772" y="205"/>
                    <a:pt x="80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6640" y="3147840"/>
              <a:ext cx="6534000" cy="1574280"/>
            </a:xfrm>
            <a:custGeom>
              <a:avLst/>
              <a:gdLst/>
              <a:ahLst/>
              <a:rect l="l" t="t" r="r" b="b"/>
              <a:pathLst>
                <a:path w="8091" h="1949">
                  <a:moveTo>
                    <a:pt x="0" y="966"/>
                  </a:moveTo>
                  <a:cubicBezTo>
                    <a:pt x="280" y="806"/>
                    <a:pt x="1133" y="6"/>
                    <a:pt x="1680" y="6"/>
                  </a:cubicBezTo>
                  <a:cubicBezTo>
                    <a:pt x="2227" y="6"/>
                    <a:pt x="2737" y="643"/>
                    <a:pt x="3280" y="966"/>
                  </a:cubicBezTo>
                  <a:cubicBezTo>
                    <a:pt x="3823" y="1289"/>
                    <a:pt x="4393" y="1943"/>
                    <a:pt x="4940" y="1946"/>
                  </a:cubicBezTo>
                  <a:cubicBezTo>
                    <a:pt x="5487" y="1949"/>
                    <a:pt x="6035" y="1310"/>
                    <a:pt x="6560" y="986"/>
                  </a:cubicBezTo>
                  <a:cubicBezTo>
                    <a:pt x="7085" y="662"/>
                    <a:pt x="7772" y="205"/>
                    <a:pt x="80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0080" y="3069720"/>
              <a:ext cx="6492960" cy="1809360"/>
            </a:xfrm>
            <a:custGeom>
              <a:avLst/>
              <a:gdLst/>
              <a:ahLst/>
              <a:rect l="l" t="t" r="r" b="b"/>
              <a:pathLst>
                <a:path w="8040" h="2240">
                  <a:moveTo>
                    <a:pt x="0" y="1073"/>
                  </a:moveTo>
                  <a:cubicBezTo>
                    <a:pt x="50" y="1043"/>
                    <a:pt x="217" y="833"/>
                    <a:pt x="300" y="893"/>
                  </a:cubicBezTo>
                  <a:cubicBezTo>
                    <a:pt x="383" y="953"/>
                    <a:pt x="403" y="1503"/>
                    <a:pt x="500" y="1433"/>
                  </a:cubicBezTo>
                  <a:cubicBezTo>
                    <a:pt x="597" y="1363"/>
                    <a:pt x="783" y="406"/>
                    <a:pt x="880" y="473"/>
                  </a:cubicBezTo>
                  <a:cubicBezTo>
                    <a:pt x="977" y="540"/>
                    <a:pt x="1010" y="1730"/>
                    <a:pt x="1080" y="1833"/>
                  </a:cubicBezTo>
                  <a:cubicBezTo>
                    <a:pt x="1150" y="1936"/>
                    <a:pt x="1230" y="1373"/>
                    <a:pt x="1300" y="1093"/>
                  </a:cubicBezTo>
                  <a:cubicBezTo>
                    <a:pt x="1370" y="813"/>
                    <a:pt x="1427" y="0"/>
                    <a:pt x="1500" y="153"/>
                  </a:cubicBezTo>
                  <a:cubicBezTo>
                    <a:pt x="1573" y="306"/>
                    <a:pt x="1630" y="1993"/>
                    <a:pt x="1740" y="2013"/>
                  </a:cubicBezTo>
                  <a:cubicBezTo>
                    <a:pt x="1850" y="2033"/>
                    <a:pt x="2043" y="333"/>
                    <a:pt x="2160" y="273"/>
                  </a:cubicBezTo>
                  <a:cubicBezTo>
                    <a:pt x="2277" y="213"/>
                    <a:pt x="2360" y="1520"/>
                    <a:pt x="2440" y="1653"/>
                  </a:cubicBezTo>
                  <a:cubicBezTo>
                    <a:pt x="2520" y="1786"/>
                    <a:pt x="2563" y="1210"/>
                    <a:pt x="2640" y="1073"/>
                  </a:cubicBezTo>
                  <a:cubicBezTo>
                    <a:pt x="2717" y="936"/>
                    <a:pt x="2820" y="820"/>
                    <a:pt x="2900" y="833"/>
                  </a:cubicBezTo>
                  <a:cubicBezTo>
                    <a:pt x="2980" y="846"/>
                    <a:pt x="3053" y="1110"/>
                    <a:pt x="3120" y="1153"/>
                  </a:cubicBezTo>
                  <a:cubicBezTo>
                    <a:pt x="3187" y="1196"/>
                    <a:pt x="3227" y="1133"/>
                    <a:pt x="3300" y="1093"/>
                  </a:cubicBezTo>
                  <a:cubicBezTo>
                    <a:pt x="3373" y="1053"/>
                    <a:pt x="3470" y="846"/>
                    <a:pt x="3560" y="913"/>
                  </a:cubicBezTo>
                  <a:cubicBezTo>
                    <a:pt x="3650" y="980"/>
                    <a:pt x="3747" y="1566"/>
                    <a:pt x="3840" y="1493"/>
                  </a:cubicBezTo>
                  <a:cubicBezTo>
                    <a:pt x="3933" y="1420"/>
                    <a:pt x="4023" y="413"/>
                    <a:pt x="4120" y="473"/>
                  </a:cubicBezTo>
                  <a:cubicBezTo>
                    <a:pt x="4217" y="533"/>
                    <a:pt x="4300" y="1916"/>
                    <a:pt x="4420" y="1853"/>
                  </a:cubicBezTo>
                  <a:cubicBezTo>
                    <a:pt x="4540" y="1790"/>
                    <a:pt x="4740" y="56"/>
                    <a:pt x="4840" y="93"/>
                  </a:cubicBezTo>
                  <a:cubicBezTo>
                    <a:pt x="4940" y="130"/>
                    <a:pt x="4947" y="1906"/>
                    <a:pt x="5020" y="2073"/>
                  </a:cubicBezTo>
                  <a:cubicBezTo>
                    <a:pt x="5093" y="2240"/>
                    <a:pt x="5200" y="1393"/>
                    <a:pt x="5280" y="1093"/>
                  </a:cubicBezTo>
                  <a:cubicBezTo>
                    <a:pt x="5360" y="793"/>
                    <a:pt x="5418" y="167"/>
                    <a:pt x="5500" y="273"/>
                  </a:cubicBezTo>
                  <a:cubicBezTo>
                    <a:pt x="5582" y="379"/>
                    <a:pt x="5684" y="1664"/>
                    <a:pt x="5771" y="1727"/>
                  </a:cubicBezTo>
                  <a:cubicBezTo>
                    <a:pt x="5858" y="1790"/>
                    <a:pt x="5925" y="735"/>
                    <a:pt x="6020" y="653"/>
                  </a:cubicBezTo>
                  <a:cubicBezTo>
                    <a:pt x="6115" y="571"/>
                    <a:pt x="6232" y="1174"/>
                    <a:pt x="6340" y="1233"/>
                  </a:cubicBezTo>
                  <a:cubicBezTo>
                    <a:pt x="6448" y="1292"/>
                    <a:pt x="6584" y="1034"/>
                    <a:pt x="6671" y="1007"/>
                  </a:cubicBezTo>
                  <a:cubicBezTo>
                    <a:pt x="6758" y="980"/>
                    <a:pt x="6800" y="1013"/>
                    <a:pt x="6860" y="1073"/>
                  </a:cubicBezTo>
                  <a:cubicBezTo>
                    <a:pt x="6920" y="1133"/>
                    <a:pt x="6968" y="1427"/>
                    <a:pt x="7031" y="1367"/>
                  </a:cubicBezTo>
                  <a:cubicBezTo>
                    <a:pt x="7094" y="1307"/>
                    <a:pt x="7139" y="652"/>
                    <a:pt x="7240" y="713"/>
                  </a:cubicBezTo>
                  <a:cubicBezTo>
                    <a:pt x="7341" y="774"/>
                    <a:pt x="7527" y="1670"/>
                    <a:pt x="7640" y="1733"/>
                  </a:cubicBezTo>
                  <a:cubicBezTo>
                    <a:pt x="7753" y="1796"/>
                    <a:pt x="7853" y="1283"/>
                    <a:pt x="7920" y="1093"/>
                  </a:cubicBezTo>
                  <a:cubicBezTo>
                    <a:pt x="7987" y="903"/>
                    <a:pt x="8015" y="697"/>
                    <a:pt x="8040" y="59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Wave Frequenc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or this wave… 10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4000" y="2781360"/>
            <a:ext cx="8208360" cy="2147760"/>
            <a:chOff x="324000" y="2781360"/>
            <a:chExt cx="8208360" cy="2147760"/>
          </a:xfrm>
        </p:grpSpPr>
        <p:grpSp>
          <p:nvGrpSpPr>
            <p:cNvPr id="133" name=""/>
            <p:cNvGrpSpPr/>
            <p:nvPr/>
          </p:nvGrpSpPr>
          <p:grpSpPr>
            <a:xfrm>
              <a:off x="324000" y="2781360"/>
              <a:ext cx="8208360" cy="2147760"/>
              <a:chOff x="324000" y="2781360"/>
              <a:chExt cx="8208360" cy="21477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24000" y="2781360"/>
                <a:ext cx="8055000" cy="2147760"/>
                <a:chOff x="324000" y="2781360"/>
                <a:chExt cx="8055000" cy="2147760"/>
              </a:xfrm>
            </p:grpSpPr>
            <p:sp>
              <p:nvSpPr>
                <p:cNvPr id="135" name=""/>
                <p:cNvSpPr/>
                <p:nvPr/>
              </p:nvSpPr>
              <p:spPr>
                <a:xfrm flipV="1">
                  <a:off x="554040" y="2934720"/>
                  <a:ext cx="0" cy="199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00680" y="3931920"/>
                  <a:ext cx="751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458480" y="4008600"/>
                  <a:ext cx="92052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ime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040" y="2781360"/>
                  <a:ext cx="16876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isplacement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54040" y="3088080"/>
                  <a:ext cx="675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54040" y="4775760"/>
                  <a:ext cx="675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67904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0440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2976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5476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18012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30548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54040" y="3854880"/>
                  <a:ext cx="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4000" y="3854880"/>
                  <a:ext cx="30672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46196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7436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9972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85028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7528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100640" y="3970080"/>
                  <a:ext cx="587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6691320" y="2934720"/>
                <a:ext cx="1841040" cy="30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ximum amplitu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561600" y="3101760"/>
              <a:ext cx="6896880" cy="1661040"/>
            </a:xfrm>
            <a:custGeom>
              <a:avLst/>
              <a:gdLst/>
              <a:ahLst/>
              <a:rect l="l" t="t" r="r" b="b"/>
              <a:pathLst>
                <a:path w="8091" h="1949">
                  <a:moveTo>
                    <a:pt x="0" y="966"/>
                  </a:moveTo>
                  <a:cubicBezTo>
                    <a:pt x="280" y="806"/>
                    <a:pt x="1133" y="6"/>
                    <a:pt x="1680" y="6"/>
                  </a:cubicBezTo>
                  <a:cubicBezTo>
                    <a:pt x="2227" y="6"/>
                    <a:pt x="2737" y="643"/>
                    <a:pt x="3280" y="966"/>
                  </a:cubicBezTo>
                  <a:cubicBezTo>
                    <a:pt x="3823" y="1289"/>
                    <a:pt x="4393" y="1943"/>
                    <a:pt x="4940" y="1946"/>
                  </a:cubicBezTo>
                  <a:cubicBezTo>
                    <a:pt x="5487" y="1949"/>
                    <a:pt x="6035" y="1310"/>
                    <a:pt x="6560" y="986"/>
                  </a:cubicBezTo>
                  <a:cubicBezTo>
                    <a:pt x="7085" y="662"/>
                    <a:pt x="7772" y="205"/>
                    <a:pt x="80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61600" y="3093480"/>
              <a:ext cx="6896880" cy="1661040"/>
            </a:xfrm>
            <a:custGeom>
              <a:avLst/>
              <a:gdLst/>
              <a:ahLst/>
              <a:rect l="l" t="t" r="r" b="b"/>
              <a:pathLst>
                <a:path w="8091" h="1949">
                  <a:moveTo>
                    <a:pt x="0" y="966"/>
                  </a:moveTo>
                  <a:cubicBezTo>
                    <a:pt x="280" y="806"/>
                    <a:pt x="1133" y="6"/>
                    <a:pt x="1680" y="6"/>
                  </a:cubicBezTo>
                  <a:cubicBezTo>
                    <a:pt x="2227" y="6"/>
                    <a:pt x="2737" y="643"/>
                    <a:pt x="3280" y="966"/>
                  </a:cubicBezTo>
                  <a:cubicBezTo>
                    <a:pt x="3823" y="1289"/>
                    <a:pt x="4393" y="1943"/>
                    <a:pt x="4940" y="1946"/>
                  </a:cubicBezTo>
                  <a:cubicBezTo>
                    <a:pt x="5487" y="1949"/>
                    <a:pt x="6035" y="1310"/>
                    <a:pt x="6560" y="986"/>
                  </a:cubicBezTo>
                  <a:cubicBezTo>
                    <a:pt x="7085" y="662"/>
                    <a:pt x="7772" y="205"/>
                    <a:pt x="80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680" y="3010320"/>
              <a:ext cx="6853320" cy="1909080"/>
            </a:xfrm>
            <a:custGeom>
              <a:avLst/>
              <a:gdLst/>
              <a:ahLst/>
              <a:rect l="l" t="t" r="r" b="b"/>
              <a:pathLst>
                <a:path w="8040" h="2240">
                  <a:moveTo>
                    <a:pt x="0" y="1073"/>
                  </a:moveTo>
                  <a:cubicBezTo>
                    <a:pt x="50" y="1043"/>
                    <a:pt x="217" y="833"/>
                    <a:pt x="300" y="893"/>
                  </a:cubicBezTo>
                  <a:cubicBezTo>
                    <a:pt x="383" y="953"/>
                    <a:pt x="403" y="1503"/>
                    <a:pt x="500" y="1433"/>
                  </a:cubicBezTo>
                  <a:cubicBezTo>
                    <a:pt x="597" y="1363"/>
                    <a:pt x="783" y="406"/>
                    <a:pt x="880" y="473"/>
                  </a:cubicBezTo>
                  <a:cubicBezTo>
                    <a:pt x="977" y="540"/>
                    <a:pt x="1010" y="1730"/>
                    <a:pt x="1080" y="1833"/>
                  </a:cubicBezTo>
                  <a:cubicBezTo>
                    <a:pt x="1150" y="1936"/>
                    <a:pt x="1230" y="1373"/>
                    <a:pt x="1300" y="1093"/>
                  </a:cubicBezTo>
                  <a:cubicBezTo>
                    <a:pt x="1370" y="813"/>
                    <a:pt x="1427" y="0"/>
                    <a:pt x="1500" y="153"/>
                  </a:cubicBezTo>
                  <a:cubicBezTo>
                    <a:pt x="1573" y="306"/>
                    <a:pt x="1630" y="1993"/>
                    <a:pt x="1740" y="2013"/>
                  </a:cubicBezTo>
                  <a:cubicBezTo>
                    <a:pt x="1850" y="2033"/>
                    <a:pt x="2043" y="333"/>
                    <a:pt x="2160" y="273"/>
                  </a:cubicBezTo>
                  <a:cubicBezTo>
                    <a:pt x="2277" y="213"/>
                    <a:pt x="2360" y="1520"/>
                    <a:pt x="2440" y="1653"/>
                  </a:cubicBezTo>
                  <a:cubicBezTo>
                    <a:pt x="2520" y="1786"/>
                    <a:pt x="2563" y="1210"/>
                    <a:pt x="2640" y="1073"/>
                  </a:cubicBezTo>
                  <a:cubicBezTo>
                    <a:pt x="2717" y="936"/>
                    <a:pt x="2820" y="820"/>
                    <a:pt x="2900" y="833"/>
                  </a:cubicBezTo>
                  <a:cubicBezTo>
                    <a:pt x="2980" y="846"/>
                    <a:pt x="3053" y="1110"/>
                    <a:pt x="3120" y="1153"/>
                  </a:cubicBezTo>
                  <a:cubicBezTo>
                    <a:pt x="3187" y="1196"/>
                    <a:pt x="3227" y="1133"/>
                    <a:pt x="3300" y="1093"/>
                  </a:cubicBezTo>
                  <a:cubicBezTo>
                    <a:pt x="3373" y="1053"/>
                    <a:pt x="3470" y="846"/>
                    <a:pt x="3560" y="913"/>
                  </a:cubicBezTo>
                  <a:cubicBezTo>
                    <a:pt x="3650" y="980"/>
                    <a:pt x="3747" y="1566"/>
                    <a:pt x="3840" y="1493"/>
                  </a:cubicBezTo>
                  <a:cubicBezTo>
                    <a:pt x="3933" y="1420"/>
                    <a:pt x="4023" y="413"/>
                    <a:pt x="4120" y="473"/>
                  </a:cubicBezTo>
                  <a:cubicBezTo>
                    <a:pt x="4217" y="533"/>
                    <a:pt x="4300" y="1916"/>
                    <a:pt x="4420" y="1853"/>
                  </a:cubicBezTo>
                  <a:cubicBezTo>
                    <a:pt x="4540" y="1790"/>
                    <a:pt x="4740" y="56"/>
                    <a:pt x="4840" y="93"/>
                  </a:cubicBezTo>
                  <a:cubicBezTo>
                    <a:pt x="4940" y="130"/>
                    <a:pt x="4947" y="1906"/>
                    <a:pt x="5020" y="2073"/>
                  </a:cubicBezTo>
                  <a:cubicBezTo>
                    <a:pt x="5093" y="2240"/>
                    <a:pt x="5200" y="1393"/>
                    <a:pt x="5280" y="1093"/>
                  </a:cubicBezTo>
                  <a:cubicBezTo>
                    <a:pt x="5360" y="793"/>
                    <a:pt x="5418" y="167"/>
                    <a:pt x="5500" y="273"/>
                  </a:cubicBezTo>
                  <a:cubicBezTo>
                    <a:pt x="5582" y="379"/>
                    <a:pt x="5684" y="1664"/>
                    <a:pt x="5771" y="1727"/>
                  </a:cubicBezTo>
                  <a:cubicBezTo>
                    <a:pt x="5858" y="1790"/>
                    <a:pt x="5925" y="735"/>
                    <a:pt x="6020" y="653"/>
                  </a:cubicBezTo>
                  <a:cubicBezTo>
                    <a:pt x="6115" y="571"/>
                    <a:pt x="6232" y="1174"/>
                    <a:pt x="6340" y="1233"/>
                  </a:cubicBezTo>
                  <a:cubicBezTo>
                    <a:pt x="6448" y="1292"/>
                    <a:pt x="6584" y="1034"/>
                    <a:pt x="6671" y="1007"/>
                  </a:cubicBezTo>
                  <a:cubicBezTo>
                    <a:pt x="6758" y="980"/>
                    <a:pt x="6800" y="1013"/>
                    <a:pt x="6860" y="1073"/>
                  </a:cubicBezTo>
                  <a:cubicBezTo>
                    <a:pt x="6920" y="1133"/>
                    <a:pt x="6968" y="1427"/>
                    <a:pt x="7031" y="1367"/>
                  </a:cubicBezTo>
                  <a:cubicBezTo>
                    <a:pt x="7094" y="1307"/>
                    <a:pt x="7139" y="652"/>
                    <a:pt x="7240" y="713"/>
                  </a:cubicBezTo>
                  <a:cubicBezTo>
                    <a:pt x="7341" y="774"/>
                    <a:pt x="7527" y="1670"/>
                    <a:pt x="7640" y="1733"/>
                  </a:cubicBezTo>
                  <a:cubicBezTo>
                    <a:pt x="7753" y="1796"/>
                    <a:pt x="7853" y="1283"/>
                    <a:pt x="7920" y="1093"/>
                  </a:cubicBezTo>
                  <a:cubicBezTo>
                    <a:pt x="7987" y="903"/>
                    <a:pt x="8015" y="697"/>
                    <a:pt x="8040" y="59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Now lets have a go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1:42:07Z</dcterms:created>
  <dc:creator>Ministry of Education</dc:creator>
  <dc:description/>
  <dc:language>en-US</dc:language>
  <cp:lastModifiedBy>Ministry of Education</cp:lastModifiedBy>
  <dcterms:modified xsi:type="dcterms:W3CDTF">2010-02-23T00:29:01Z</dcterms:modified>
  <cp:revision>2</cp:revision>
  <dc:subject/>
  <dc:title>Beats</dc:title>
</cp:coreProperties>
</file>